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jpeg" ContentType="image/jpeg"/>
  <Override PartName="/ppt/media/image4.wmf" ContentType="image/x-wmf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73A-0D36-4CAF-B187-4EA0FFB9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9A4-D669-4122-88D7-2ABB254A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3AD-148A-4EEA-88BD-8E1DF469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041-B729-4EF7-9B55-AAEA37AF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3E30-01DF-4051-BFA9-D99C0BF3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CBAE-94A2-49CE-9E5C-D9456F9A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E0C8-7CFC-4A7C-A851-09C970B4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C664-8B06-42B3-A0D6-5AA5C071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E5C1-3BA9-400E-8E54-C53D622C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AAA8-AD94-4A6C-811C-AD84AFBB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9FBE-BFC9-42B1-BC01-F9732225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6BE-8539-473A-AAFD-16228D13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72C5-C8A1-48D8-AF4A-3E3AB47F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B64A-6190-4087-909B-A6A3D287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05C9-0B11-4AB2-9831-8EB010D5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8481-54EB-4F53-8AD8-13284DF6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9A9F-2105-4C33-AC8F-75EC89A8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01B-2E73-43B2-93E6-56A5895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99E-D5CD-427F-BB13-A9B14D54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0C1-F52D-4A6C-BA06-348C740B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EAF-4A8A-4152-AD33-5BEDA0CF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829-E340-48FE-A02F-56A2D005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304-861B-4B27-A827-05F4840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85D-3C4A-485A-AF72-15052F0F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5106-F660-49D7-AF30-F9811ACE5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130-B4A7-4BBA-B6DC-CD77311F7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allel Lines and Proportional Part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581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tion 7.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angle Midsegment Theor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idsegment of a triangle is parallel to one side of the triangle, and its length is one-half the length of that sid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D and E are mid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 of AB and AC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DE || BC and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 = ½ B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3530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 ABC has vertices A(-2,2), B(2, 4) and C(4,-4).  DE is the midsegment of triangle ABC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coordinates of D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and 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midpt of A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(0,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1781280" cy="176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5"/>
          <p:cNvGraphicFramePr/>
          <p:nvPr/>
        </p:nvGraphicFramePr>
        <p:xfrm>
          <a:off x="6400800" y="4343400"/>
          <a:ext cx="196848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343400"/>
                    <a:ext cx="19684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 midpt of A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(1, -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 2 - Verify BC || 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this by finding slop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ope of BC = -4 and slope of DE = -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 || 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 3 – Verify DE = ½ B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do this use the distance formula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 =               which simplifies to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 =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 = ½ B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209680" y="3200400"/>
          <a:ext cx="6098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6098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0" y="3276720"/>
          <a:ext cx="7491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3276720"/>
                    <a:ext cx="749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2209680" y="3809880"/>
          <a:ext cx="5842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809880"/>
                    <a:ext cx="584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rollaries of side splitter thm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If three or more parallel lines intersect two transversals, then they cut off the transversals proportion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3352680" cy="198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495680" y="3505320"/>
            <a:ext cx="3733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3352680" cy="1981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ree or more parallel lines cut off congruent segments on one transversal, then they cut off congruent segments on every transversa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4343400"/>
            <a:ext cx="3504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In the figure, Larch, Maple, and Nutthatch Streets are all parallel.  The figure shows the distance between city blocks.  Find x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44960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x and 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: AB = B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 + 4 = 6 – 2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=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rollary to say DE = E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y = 5/3 y +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56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ortional parts of triangle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 parallel transversals that intersect parallel lines can be extended to form similar triangles.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, the sides of the triangles are proportiona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Splitter Theorem 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riangle Proportionality Theor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 line is parallel to one side of a triangle and intersects the other two sides, it divides those two sides proportion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E || CD, the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12408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5"/>
          <p:cNvGraphicFramePr/>
          <p:nvPr/>
        </p:nvGraphicFramePr>
        <p:xfrm>
          <a:off x="1212840" y="4641840"/>
          <a:ext cx="133344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4641840"/>
                    <a:ext cx="1333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||ED, BD = 8, DC = 4, and AE = 12.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E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 = 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876920" cy="19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5"/>
          <p:cNvGraphicFramePr/>
          <p:nvPr/>
        </p:nvGraphicFramePr>
        <p:xfrm>
          <a:off x="1295280" y="3733920"/>
          <a:ext cx="130824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733920"/>
                    <a:ext cx="13082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6"/>
          <p:cNvGraphicFramePr/>
          <p:nvPr/>
        </p:nvGraphicFramePr>
        <p:xfrm>
          <a:off x="1295280" y="4648320"/>
          <a:ext cx="106704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648320"/>
                    <a:ext cx="1067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Y|| VX, UV = 3, UW = 18, XW = 16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YX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X = 3.2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3657600" cy="335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5"/>
          <p:cNvGraphicFramePr/>
          <p:nvPr/>
        </p:nvGraphicFramePr>
        <p:xfrm>
          <a:off x="1295280" y="2666880"/>
          <a:ext cx="153684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666880"/>
                    <a:ext cx="1536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6"/>
          <p:cNvGraphicFramePr/>
          <p:nvPr/>
        </p:nvGraphicFramePr>
        <p:xfrm>
          <a:off x="1295280" y="3733920"/>
          <a:ext cx="118116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733920"/>
                    <a:ext cx="11811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e of Side Splitt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 line intersects the other two sides and separates the sides into corresponding segments of proportional lengths,  then the line is parallel to the third sid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BE || C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12408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7"/>
          <p:cNvGraphicFramePr/>
          <p:nvPr/>
        </p:nvGraphicFramePr>
        <p:xfrm>
          <a:off x="1600200" y="4114800"/>
          <a:ext cx="133344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114800"/>
                    <a:ext cx="1333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e if GH || FE.  Justif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riangle DEF, DH = 18, and HE = 36, and DG = ½ GF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how GH || FE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 GF = x, then DG = ½ x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3124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5"/>
          <p:cNvGraphicFramePr/>
          <p:nvPr/>
        </p:nvGraphicFramePr>
        <p:xfrm>
          <a:off x="2362320" y="3733920"/>
          <a:ext cx="137160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33920"/>
                    <a:ext cx="1371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itu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2895480" y="1981080"/>
          <a:ext cx="12193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1219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2666880" y="3581280"/>
          <a:ext cx="100332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581280"/>
                    <a:ext cx="1003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743200" y="5105520"/>
          <a:ext cx="7873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105520"/>
                    <a:ext cx="787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 the sides are proportional, then GH || F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35:39Z</dcterms:created>
  <dc:creator>bknott</dc:creator>
  <dc:description/>
  <dc:language>en-US</dc:language>
  <cp:lastModifiedBy>chmorgan</cp:lastModifiedBy>
  <dcterms:modified xsi:type="dcterms:W3CDTF">2014-01-10T14:16:16Z</dcterms:modified>
  <cp:revision>16</cp:revision>
  <dc:subject/>
  <dc:title>Parallel Lines and Proportional Par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71033</vt:lpwstr>
  </property>
</Properties>
</file>